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7781-935B-487F-A619-2FC740B7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ED06-8C07-458C-A662-B94EE01AD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4E4E-D7B7-4B0B-8BA1-DABD0EFFF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1886-44A6-47D5-BCB8-563D2D0026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A34D-A225-4726-92E3-8F2E8C851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3CC3-8B83-4E16-94F2-5F57EA27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C8FA-5B8C-4166-B5EC-B8D52F1F9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FD9A-4394-4185-97F5-D2D9060EC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067C-F438-49F9-8EDF-1DFF9F23E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1767-1627-44FC-85C0-E73218AD3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EE28-6CA3-4249-B094-5BBA400A5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806D-AFB6-468C-ABFE-21A180152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2B25-5086-4680-88A3-A9F249F012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34D-6DB4-479D-9F04-04EDD33B2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8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6A2-7F65-4D5D-BCE0-EF57CB4524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854-B96B-40DB-8D8A-C5DF834080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D1F-D527-428A-B286-DFE0C35B07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05C7-BA67-4979-821D-37AD38156C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9682-D67A-43F2-B78E-22CAD6E35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589-4AEC-484A-BB7B-127ADA5009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616200" y="838080"/>
            <a:ext cx="552780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B4B-FD1C-4901-9F72-818998AD3A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56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242-9076-4FAD-A4C1-DBC571AE9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6600" y="1676520"/>
            <a:ext cx="9077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A38-60AE-4BBC-B399-6FB384518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155-A6DC-47CA-ADF6-697B2EE22F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38671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03840" y="304920"/>
            <a:ext cx="5240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333E-2E60-4B09-AD7B-9129589BF0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F916-699A-4632-8DEA-6417A24B8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  3/4,   5/6,   3 3/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1/2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B312-A74F-4CBC-8CE4-B88BC52873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7A7-2B53-4F2D-BB0D-1D908AC0A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D14-6E83-44CC-A13E-C671118590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5486400" y="-83808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286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4BF-A0FC-4ABF-906F-5C82E1A67E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B50-90A3-4787-869A-F8309300A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2BE-F9E6-4FA1-8F54-01B88B0B4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8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D1C-6CDF-4501-A2B5-8394E3343D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55:20Z</dcterms:created>
  <dc:creator>CSC</dc:creator>
  <dc:description/>
  <dc:language>en-US</dc:language>
  <cp:lastModifiedBy>Kathy Kubota-Zarivnij</cp:lastModifiedBy>
  <dcterms:modified xsi:type="dcterms:W3CDTF">2012-08-23T15:34:21Z</dcterms:modified>
  <cp:revision>43</cp:revision>
  <dc:subject/>
  <dc:title>&lt;Title&gt;</dc:title>
</cp:coreProperties>
</file>